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FFC4-A9AE-476B-914C-17BA42E44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B661-D67F-4132-944A-C7FA8ACA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6A60-4934-4E8F-A660-D99B065CD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47A7-68C4-48BD-A358-AA49E2E7A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861C-9363-48F5-8487-8A98E11F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F33A-A18E-4A18-A517-2F1594E3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E481-37A8-487D-B7F8-23F73A68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0E54-E6CB-403A-88D3-05D289E2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CE86-C04E-47DD-83F5-944B8714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9E8D-5A59-4F9C-9886-3AF20C26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4125-27F7-49F4-A9C5-F239CEF1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C932-98C3-43B4-BB9D-B306EF45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C573-A2F2-4943-A431-5E2577B5B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1000" y="83808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F SUPERPA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3429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12720" y="4267080"/>
            <a:ext cx="61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14800" y="2514600"/>
            <a:ext cx="990720" cy="76212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3429000"/>
            <a:ext cx="5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W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17880" y="27766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19320" y="3048120"/>
            <a:ext cx="3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00560" y="28195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43360" y="32004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373392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79800" y="3429000"/>
            <a:ext cx="56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/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92160" y="3733920"/>
            <a:ext cx="77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/12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43800" y="2819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467480" y="2895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64720" y="2209680"/>
            <a:ext cx="80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4380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467480" y="3809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77840" y="411480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93320" y="33526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4191120"/>
            <a:ext cx="214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F SUPERPA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89080" y="4419720"/>
            <a:ext cx="148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100 Watt HF Amplif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35360" y="12952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715000" y="4267080"/>
            <a:ext cx="372960" cy="381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200400" y="4191120"/>
            <a:ext cx="390600" cy="44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838080" y="2057400"/>
          <a:ext cx="7467840" cy="2666880"/>
        </p:xfrm>
        <a:graphic>
          <a:graphicData uri="http://schemas.openxmlformats.org/drawingml/2006/table">
            <a:tbl>
              <a:tblPr/>
              <a:tblGrid>
                <a:gridCol w="7467840"/>
              </a:tblGrid>
              <a:tr h="266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38080" y="2057400"/>
            <a:ext cx="746784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01000" y="83808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F SUPERPA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86200" y="1295280"/>
            <a:ext cx="16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R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86600" y="3733920"/>
            <a:ext cx="685800" cy="30456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0" y="32004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 V D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4120" y="32767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30640" y="2895480"/>
            <a:ext cx="105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7680" y="396252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33526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39360" y="289548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CV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40080" y="39625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3429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50080" y="312408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9880" y="2209680"/>
            <a:ext cx="149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F SUPERPAC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2514600"/>
            <a:ext cx="2362320" cy="246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WA3LTJ -- WA3WDK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838080" y="2057400"/>
          <a:ext cx="7467840" cy="2743200"/>
        </p:xfrm>
        <a:graphic>
          <a:graphicData uri="http://schemas.openxmlformats.org/drawingml/2006/table">
            <a:tbl>
              <a:tblPr/>
              <a:tblGrid>
                <a:gridCol w="7467840"/>
              </a:tblGrid>
              <a:tr h="27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00:50:41Z</dcterms:created>
  <dc:creator>Jonathan Gottlieb</dc:creator>
  <dc:description/>
  <dc:language>en-US</dc:language>
  <cp:lastModifiedBy>Andrew Mitz</cp:lastModifiedBy>
  <dcterms:modified xsi:type="dcterms:W3CDTF">2005-03-06T04:24:52Z</dcterms:modified>
  <cp:revision>43</cp:revision>
  <dc:subject/>
  <dc:title>Slide 1</dc:title>
</cp:coreProperties>
</file>